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3288-F044-410A-B3EE-144FE37F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0CD06-4A54-43F8-8173-A155AA1982D2}" type="slidenum"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meet everyone’s expectation.  Everyone situation is unique.  Please let me know how I can help you specif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DDABB6-7F11-47EC-B10A-95F0C14A6BE8}" type="slidenum">
              <a:rPr b="0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7821-C8C8-4118-8348-A54B1CD2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30DD8-D41B-47F2-8AB5-83C72034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ACF1F-CD36-4636-886C-03FAE07D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A1FA3-649C-47E0-8B37-A14B7DD6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CCB0-8338-4DE4-82DD-4F9723D0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C302-DB2F-4BBA-9653-F21F3A04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B7D1-E948-48B3-95D8-37178FFC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C55E-9671-441A-A391-576BA900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1044-A15D-4B6A-BB61-522FDBDC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7087-1276-4F00-8F86-189FBA7C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8892-1037-46F1-AA48-FDB45EEB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1465-330B-4F6D-904F-F882AD83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B36D-91E6-4420-A934-FBE5D8B3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BD5D-B29C-4879-B7FC-D4D2062C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FAE6-5851-452A-8893-A01A0B2B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04BC-627E-4BA3-9210-FCB66B5E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87F3-8E4C-4DEB-AEA9-84CE0A00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53A3-D672-438F-9E3C-E3E99A80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09BAE-75C6-40FE-AB9E-04709B64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3BDF7-CDA5-4F80-801B-4336DC84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3C364-BCDA-4ADB-B69B-8287DCC7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38EA5-F650-4B49-9E44-6F0C5FF8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3EA93-8B56-429E-B377-B5C79B84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BD22-9B85-469A-BC48-B7FC0442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A2F3-350A-446C-9053-1EC3816C18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5A57-8489-4548-A629-DCA0490258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llegeboard.com/" TargetMode="External"/><Relationship Id="rId2" Type="http://schemas.openxmlformats.org/officeDocument/2006/relationships/hyperlink" Target="http://www.collegeconfidential.com/" TargetMode="External"/><Relationship Id="rId3" Type="http://schemas.openxmlformats.org/officeDocument/2006/relationships/hyperlink" Target="http://www.fastweb.com/" TargetMode="External"/><Relationship Id="rId4" Type="http://schemas.openxmlformats.org/officeDocument/2006/relationships/hyperlink" Target="http://www.smartaboutcollege.com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and Career Plan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lege Search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dmissions Tes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olarshi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ancial Ai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advice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reshmen and Sophomo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r GPA is cumulati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t to know the adults at school and in your lif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ke classes that are interesting and challeng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 involved and stay involv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pend some time thinking about what you plan to do after high school, then make a plan to get the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uni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ke some, not all, AP or Honors cours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ke your ACT or SAT exams this spring, especially if you’re in a fall spor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ke a tour of colleges and universities this spring brea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 it NOW!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me advice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ior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’t self-select your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ly early (pay attention to deadlin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ply often (scholarship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ather accurate information from good sources  (financial aid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cate clearly and effective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ent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orecast:  fair to partly cloudy…hoping for sunsh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the Academy Award for Best Supporting Actor/Actress goes to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how things have chan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-78840"/>
            <a:ext cx="839340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you grew up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70'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f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 your sophomore class picture, you're wearing a shirt with the collar "up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eg warmers were c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ever asked to be gagged with a spo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ever had a Dorothy Hamill haircut or used Short and Sassy shamp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remember when Jordache jeans were c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remember "Friday Night Videos" before the days of MT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remember having to get off the couch to change the TV chann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 took family trips BEFORE the invention of the mini-va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member riding in the back of the station wagon trying to get passing trucks to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onk at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r first musical purchase was an 8-track t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r parents paid $2,000 for a top-loading VCR that was almost the size of a coffee 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ou've ever owned a pair of rainbow suspenders like the ones Mork used to wea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3067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10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333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019560"/>
            <a:ext cx="8229600" cy="3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SOURCE: The College Board, </a:t>
            </a:r>
            <a:r>
              <a:rPr b="0" i="1" lang="en-US" sz="800" spc="-1" strike="noStrike">
                <a:solidFill>
                  <a:srgbClr val="ffffff"/>
                </a:solidFill>
                <a:latin typeface="Garamond"/>
              </a:rPr>
              <a:t>Trends in College Pricing 2010,</a:t>
            </a: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Table 1A. 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7" descr="Shadow 5.jpg"/>
          <p:cNvPicPr/>
          <p:nvPr/>
        </p:nvPicPr>
        <p:blipFill>
          <a:blip r:embed="rId1"/>
          <a:stretch/>
        </p:blipFill>
        <p:spPr>
          <a:xfrm>
            <a:off x="152280" y="1111320"/>
            <a:ext cx="8839440" cy="4200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P 2010 Table 1A.png"/>
          <p:cNvPicPr/>
          <p:nvPr/>
        </p:nvPicPr>
        <p:blipFill>
          <a:blip r:embed="rId2"/>
          <a:stretch/>
        </p:blipFill>
        <p:spPr>
          <a:xfrm>
            <a:off x="380880" y="1752480"/>
            <a:ext cx="838224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earch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plication process is all about discovering who you a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ermining the best “fi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Useful websi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ww.actstudent.org (ACT exa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.collegeboard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SAT exam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www.collegeconfidential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college search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www.fastweb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scholarship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ww.fafsa.ed.gov (financial ai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CIS: 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www.smartaboutcollege.com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tinel High School Library webpage, www.mcps.k12.mt.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ri Ph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llege and Career Counsel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ay – Friday, 8:45-12:4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28-2400 ext. 702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dpham@mcps.k12.mt.u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ebook:  www.facebook.com/shscollegecare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al thought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ducation is the most powerful weapon which you can use to change the world.”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lson Mandel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ease pick up some literature on your way o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ank you for your attention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ease let us know how we can help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hy does graduation matter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5" descr="http://www.bls.gov/emp/ep_chart_001.JPG"/>
          <p:cNvPicPr/>
          <p:nvPr/>
        </p:nvPicPr>
        <p:blipFill>
          <a:blip r:embed="rId1"/>
          <a:stretch/>
        </p:blipFill>
        <p:spPr>
          <a:xfrm>
            <a:off x="228600" y="1676520"/>
            <a:ext cx="861048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Shadow 5.jpg"/>
          <p:cNvPicPr/>
          <p:nvPr/>
        </p:nvPicPr>
        <p:blipFill>
          <a:blip r:embed="rId1"/>
          <a:stretch/>
        </p:blipFill>
        <p:spPr>
          <a:xfrm>
            <a:off x="1257480" y="676440"/>
            <a:ext cx="6743520" cy="6029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Serifa Std 45 Light"/>
              </a:rPr>
              <a:t>Median Family Income by Selected Characteristics, 2009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6510240"/>
            <a:ext cx="822960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SOURCE: The College Board, </a:t>
            </a:r>
            <a:r>
              <a:rPr b="0" i="1" lang="en-US" sz="800" spc="-1" strike="noStrike">
                <a:solidFill>
                  <a:srgbClr val="ffffff"/>
                </a:solidFill>
                <a:latin typeface="Garamond"/>
              </a:rPr>
              <a:t>Trends in College Pricing 2010,</a:t>
            </a:r>
            <a:r>
              <a:rPr b="0" lang="en-US" sz="800" spc="-1" strike="noStrike">
                <a:solidFill>
                  <a:srgbClr val="ffffff"/>
                </a:solidFill>
                <a:latin typeface="Garamond"/>
              </a:rPr>
              <a:t> Figure 16B.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6" descr="CP 2010 Figure 04.png"/>
          <p:cNvPicPr/>
          <p:nvPr/>
        </p:nvPicPr>
        <p:blipFill>
          <a:blip r:embed="rId2"/>
          <a:stretch/>
        </p:blipFill>
        <p:spPr>
          <a:xfrm>
            <a:off x="1600200" y="838080"/>
            <a:ext cx="60310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llege Search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pplication process is all about discovering who you are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termining the best “fit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cording to President Dennison (8/27/09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0 H.S. Freshman --&gt;10 years later-only 18 have a degree (approximately 18% = 52 SHS stude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actors to consider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2-year or 4-ye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blic or Priv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ype of Progra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ndardized Tes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e or the other, not bo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r highest score will be us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CT (Good Studen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 penalty for wrong answ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urriculum based (all encompassing final exam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cience se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T (Good Test-taker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¼ point penalty for every wrong answ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SAT tests your ability to take the SAT test.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ies to determine “innate ability”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cholar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ost money available is at the college or university of inter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ing well-rounded mat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don’t have to be the top stu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adlines are our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be a good return on your time invest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inancial A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FSA form:  Free Application for Federal Student Ai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y after January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doesn’t hurt to app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igate the process, programs, and particul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R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F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COA – EFC = Ne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8:26:48Z</dcterms:created>
  <dc:creator>MCPS User</dc:creator>
  <dc:description/>
  <dc:language>en-US</dc:language>
  <cp:lastModifiedBy>tri pham</cp:lastModifiedBy>
  <dcterms:modified xsi:type="dcterms:W3CDTF">2010-11-09T21:51:01Z</dcterms:modified>
  <cp:revision>13</cp:revision>
  <dc:subject/>
  <dc:title>Slide 1</dc:title>
</cp:coreProperties>
</file>